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C77-80AF-413F-A593-4C7FEC2B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A4E-E273-45D3-B7BB-36DB4109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4F0-3C20-4A1E-A253-646DDD7B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855-7C1B-4EA5-BE57-1BBAEAC6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4DFC-E4BD-4902-BFA0-28ADFD8E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A919-C15A-4790-9CCA-D78F6319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85D0-15E5-48C0-A2D5-6FF08231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639E-C275-49D0-8F0E-14704DAC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16A8-3918-47C4-8C03-A3D4213A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DF70-07B3-4EAE-933E-E8EF013A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3748-B829-4CBB-A3DE-F9A5D37D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38D-459A-4850-991C-B071ACEC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379A-F351-4BA4-B74C-E26DA406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4D53-08FF-48B6-AED8-DC8BAEFF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54C3-F7B1-4768-8C09-0496BE9F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944B-6063-4C82-AAEC-3FAC1008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E1DF-4621-40AA-AEA8-F970B0DF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6DD-C526-409E-9E0E-0E88885C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421-05ED-4D10-8BF4-950EBB0F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6CC-A2EF-423B-94D6-58BABDC5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C5E-5A24-4B28-ABA6-C01CD1C3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C8B-A9DE-48BB-82FD-59199BEB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B86-1AC9-4BD5-80E7-44CD6275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37E-DF8A-49AF-B789-3A512192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2788-1E8F-4629-B1D3-4D022DC88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29E9-8180-41A8-873A-BA68B752391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ultiplying 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ositive &amp; Negative Numbers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91120" y="358128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 x –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886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6237360"/>
            <a:ext cx="18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Comic Sans MS"/>
              </a:rPr>
              <a:t>©</a:t>
            </a:r>
            <a:r>
              <a:rPr b="0" lang="en-GB" sz="1000" spc="-1" strike="noStrike">
                <a:solidFill>
                  <a:srgbClr val="996600"/>
                </a:solidFill>
                <a:latin typeface="Comic Sans MS"/>
              </a:rPr>
              <a:t>Microsoft Word cli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ultiplying A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ositive Times A Negativ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828800"/>
            <a:ext cx="41148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sum below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590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3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2514600"/>
            <a:ext cx="419076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um means 5 lots of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343400"/>
            <a:ext cx="259092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4952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3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5638680"/>
            <a:ext cx="67820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1: A plus times a minus or a minus times a plus makes a mi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3124080"/>
            <a:ext cx="3657600" cy="45972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: Try Th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3733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4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343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- 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4952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- 7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3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543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ultiplying A 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Negative Times A Negativ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1523880"/>
            <a:ext cx="5029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number pattern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5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666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4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3276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3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4343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4876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54864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1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6019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2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2133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3809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4876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6019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352320" y="2438280"/>
            <a:ext cx="4191480" cy="3200400"/>
            <a:chOff x="3352320" y="2438280"/>
            <a:chExt cx="4191480" cy="3200400"/>
          </a:xfrm>
        </p:grpSpPr>
        <p:sp>
          <p:nvSpPr>
            <p:cNvPr id="129" name=""/>
            <p:cNvSpPr/>
            <p:nvPr/>
          </p:nvSpPr>
          <p:spPr>
            <a:xfrm>
              <a:off x="3581280" y="2438280"/>
              <a:ext cx="1447920" cy="1219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504960" y="2971440"/>
              <a:ext cx="1523880" cy="7621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3504960" y="3580920"/>
              <a:ext cx="15238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428640" y="3809880"/>
              <a:ext cx="16002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52320" y="3886200"/>
              <a:ext cx="1752840" cy="68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52320" y="3886200"/>
              <a:ext cx="175284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352320" y="3886200"/>
              <a:ext cx="1676520" cy="1752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00600" y="3429000"/>
              <a:ext cx="27432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ok at the pat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267080" y="2286000"/>
            <a:ext cx="4572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2 : A negative times a negative or  a positive times a positive makes a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3657600"/>
            <a:ext cx="3276720" cy="45972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Try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– 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5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4648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– 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6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5105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 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 8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– 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7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5438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oes In The Box 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1371600"/>
            <a:ext cx="3810240" cy="45972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hese examples yoursel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2057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– 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8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2743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–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7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429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 5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6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114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–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3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4876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 – 7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562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 1 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2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133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  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7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2743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 – 7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8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3352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) – 2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1148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) 2 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3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4800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1) – 2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10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5486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2) 1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9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2057400"/>
            <a:ext cx="762120" cy="6094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2743200"/>
            <a:ext cx="762120" cy="6094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3429000"/>
            <a:ext cx="762120" cy="6094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91120"/>
            <a:ext cx="761760" cy="6094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4876920"/>
            <a:ext cx="761760" cy="6094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5638680"/>
            <a:ext cx="761760" cy="6098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1981080"/>
            <a:ext cx="762120" cy="6098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2666880"/>
            <a:ext cx="761760" cy="6098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3352680"/>
            <a:ext cx="762120" cy="6098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0" y="4038480"/>
            <a:ext cx="762120" cy="6098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4724280"/>
            <a:ext cx="761760" cy="6098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5562720"/>
            <a:ext cx="761760" cy="6094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5029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5715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4876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80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5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40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75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10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4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8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15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50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85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2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55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90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7:30:55Z</dcterms:created>
  <dc:creator>LT Scotland</dc:creator>
  <dc:description/>
  <dc:language>en-US</dc:language>
  <cp:lastModifiedBy>LTS</cp:lastModifiedBy>
  <dcterms:modified xsi:type="dcterms:W3CDTF">2004-08-06T13:21:18Z</dcterms:modified>
  <cp:revision>15</cp:revision>
  <dc:subject/>
  <dc:title>Positive &amp; Negative Numbers 3</dc:title>
</cp:coreProperties>
</file>